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02D6-EA62-4D83-9CA8-A3C9FE22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48C-DEF7-4944-AEE4-D82C617A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E5D1-3D41-40E2-A649-A865945D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BD4B-96F4-479E-93F7-4BEDC4F3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242D-B8A5-4775-9865-EE8CA2B7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35D9-108A-4C5B-BAC8-5F6C1EE6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5A6-B932-4280-9E99-50387B43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FB32-5360-4BCB-A711-593C13AD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DBB2-00D3-44B7-A3C2-7CE7EFB7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E7E-DCF7-4813-9380-F602786C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85D-B85B-4361-BA1B-73AF058E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1884-19ED-49A3-9351-C5EDBFE6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CC36-108A-4CF3-9FC5-9108EB2C478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م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حليل التقارير المالية في ظل التضخ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F098-E415-454C-A60B-186C86DC83C4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67080" y="1477800"/>
            <a:ext cx="7660800" cy="103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و التضخم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0320" y="3191040"/>
            <a:ext cx="7650720" cy="2192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زيادة كمية النقود المتوفرة على كمية السلع والخدمات المعروض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زيادة العامة في ا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خفاض القوة الشرائية للنق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E40-EC1F-455C-B90D-87DC88F222CB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ق تعديل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02040"/>
            <a:ext cx="411480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67820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4360-C5F0-4FB3-B2D2-9E5CFB0F7770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346040"/>
            <a:ext cx="7772760" cy="90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917800"/>
            <a:ext cx="8015400" cy="3319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ديل التكلفة التاريخية للاصول والالتز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ى أساس وحدة نقدية ذات قوة شرائية متساوية مرتبطة بالتغ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المستوى العام ل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بناءً عليه يتم تصنيف محتويات قائمة المركز المالي إلى نوع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ن الحسابات: الحسابات النقدية والحسابات غير 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F674-160F-401C-B0F2-38305A6F318D}" type="slidenum">
              <a:t>4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01160" y="1714680"/>
            <a:ext cx="360360" cy="3744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825120"/>
            <a:ext cx="8020080" cy="9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205000"/>
            <a:ext cx="6933960" cy="168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النقدية مثل المدينون واوراق القبض والمصروفات المقدمة والدائنون واوراق الدفع والمصروفات المستحق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PT Bold Heading"/>
              </a:rPr>
              <a:t>لا تعد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4365720"/>
            <a:ext cx="701028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غير النقدية مثل المخزون والمباني وحقوق الملكية تعدل على النحو التالي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كلفة التاريخية (الرقم القياسي للاسعار الآن / الرقم القياسي للاسعار وقت الشرا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596360" y="28522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740720" y="51130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92FA-0A3B-4675-9EB1-E09C7B9976A6}" type="slidenum">
              <a:t>5</a:t>
            </a:fld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1203120"/>
            <a:ext cx="7772760" cy="90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4960" y="2917800"/>
            <a:ext cx="7512120" cy="33195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عدل التكلفة التاريخية على أساس تكلفة الاحلال الجارية في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لأصول المماثلة في العمر والكفاءة والطاقة الإنتا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7492-E1DB-4A17-B7DD-51B54F84555C}" type="slidenum">
              <a:t>6</a:t>
            </a:fld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13:06Z</dcterms:modified>
  <cp:revision>18</cp:revision>
  <dc:subject/>
  <dc:title>التحليل المالي والائتماني</dc:title>
</cp:coreProperties>
</file>